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1A1-EC96-44DB-8BCC-4877AC6F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270-7AEE-4D19-BA91-A47A000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3A6-93BD-4B1E-A93E-BA88AE65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7B6-5DDE-4622-AAEE-C4076934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CC9-4771-46A4-B420-471E442C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8F89-A7C5-4F83-AA6B-A666AB6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F6D-55DB-4AAF-B329-0DF731A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A3D1-6A34-48E2-B9B5-7BAB234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B11-CCA0-4995-8EAC-E410E160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8870-6C4A-4762-8DB5-7E59C61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1B8-5394-4D74-840C-4FCD61F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D3E-BF2F-460D-BF59-5E4DD874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187-B735-4192-B1B1-85EA84F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6D94-5ED5-4144-A55E-84AACD1C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6645-B0E8-415A-936F-36CDEC3A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AFA7-71BE-489B-AB63-21BE3480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B943-C451-4553-A047-D76F2DBB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DA4B-017F-4183-9F83-FB3357F8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4451-D867-46ED-887C-4E4E947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7CCC-8EA6-4189-BBF0-9E8B2A0F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FDE8-0632-4253-B82D-C3AC5F8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6BCD-78F4-4946-B737-22C1C4E1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335-143A-4D30-9EB1-C4C23A5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0294-35C9-4576-83FE-2DDF54EC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BD9D-D770-45FE-8C04-00976CA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CC4F-389F-480E-846B-00A4BFA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BA1E-10CF-4877-8C13-76560E5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F055-3D0F-4BD8-B709-DDD4640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DE21-A8D9-4EE0-BA85-6B931F09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C002-9B2F-4D15-89B7-DEE69652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1241-CE3F-4D06-94D4-DB15B0A7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0A801-ED45-45BB-A700-FCE8E16C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6324-7C60-4B22-9C8A-070D95B6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DCF-4391-4EFF-A10D-E64B2FF0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4382-51B3-49FE-85D4-A1C5A4C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9A2F-422E-4E77-89D8-B3E31CE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4E19-0EDA-4627-A6A2-713876E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1B63-A871-42AA-9FB3-B422C0B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7F5E-BC02-4964-B595-11C66F7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8E6C-1677-41C5-9B6C-12F1A4A3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35CD-333F-4B82-9A40-208C1FF1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B5F1-6A29-4542-B9B9-81D03C09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A2F2-B5D5-4B8F-8B1C-10909F0C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3CA-3744-4DD2-A2BD-479EB263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6E5-90EE-441A-8540-F3CE7C51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607-CA34-4ED3-814B-2787E50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7CC-1CAD-4A49-8FF5-3013443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AA2-641A-4515-B0C6-5F9B2AF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8E3-FBAA-4199-8FC8-496D9F72B24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81C-961B-45A0-88B1-84B883EEA4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5ABF-5323-4D30-B78E-05F443B2B8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53F-9BE8-43A3-A6DB-A2BBE3BC09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an Flor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ler Fornwal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stin Le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rry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li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 2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hange of a substance from a solid to a vapor without passing through a liquid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.g., ice becomes water vapor without thawing, or dry 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occurs when the vapor pressure exceeds atmospher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ase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943240" y="837720"/>
            <a:ext cx="2971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 2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www.chemistry.wustl.edu/~courses/genchem/LabTutorials/Thermochem/images/PhaseChanges.jpg"/>
          <p:cNvPicPr/>
          <p:nvPr/>
        </p:nvPicPr>
        <p:blipFill>
          <a:blip r:embed="rId1"/>
          <a:stretch/>
        </p:blipFill>
        <p:spPr>
          <a:xfrm>
            <a:off x="0" y="914400"/>
            <a:ext cx="58672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ase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90960" y="762120"/>
            <a:ext cx="3352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ive 2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iple point – conditions at which all 3 phases exist at o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itical point – conditions where no phase boundaries ex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chemwiki.ucdavis.edu/@api/deki/files/7399/=f_copy.png"/>
          <p:cNvPicPr/>
          <p:nvPr/>
        </p:nvPicPr>
        <p:blipFill>
          <a:blip r:embed="rId1"/>
          <a:srcRect l="0" t="8052" r="8726" b="0"/>
          <a:stretch/>
        </p:blipFill>
        <p:spPr>
          <a:xfrm>
            <a:off x="0" y="762120"/>
            <a:ext cx="58672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4. What do the lines (not axes) on a triple point diagram repres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The conditions at which two phases exist in equilibri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36:18Z</dcterms:created>
  <dc:creator>14rliu</dc:creator>
  <dc:description/>
  <dc:language>en-US</dc:language>
  <cp:lastModifiedBy>14rliu</cp:lastModifiedBy>
  <dcterms:modified xsi:type="dcterms:W3CDTF">2012-04-26T13:17:01Z</dcterms:modified>
  <cp:revision>5</cp:revision>
  <dc:subject/>
  <dc:title>13.4 Changes of State</dc:title>
</cp:coreProperties>
</file>